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0C6-C1D3-4060-BC28-A7BF261D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675-1487-40E6-BE01-761A0A20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869-EF92-4A9C-8637-913CB311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92E-80A8-4B8A-8633-7CC213E0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E3C-FE85-462B-886F-A319A9D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7CE-6945-46FE-A705-B2F0E352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EAC-5F31-4F9E-BAEF-A4B84540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CF1-9199-4BAE-BA06-4037DC88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E2F-C497-4758-87C7-E4C82906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AB1-D597-462D-956C-D81DE01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DB7-41F1-401A-A26E-C9C7CAC8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33E-9338-4DCD-9617-CBB8959F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CB52-DD99-4264-84AF-7C90CEA9B86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mailto:andersoncd@feam.br" TargetMode="External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entury Gothic"/>
              </a:rPr>
              <a:t>Data: 18.02.08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3336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Century Gothic"/>
              </a:rPr>
              <a:t>ORDEM DE SERVIÇO Nº. 03, DE 18 DE FEVEREIRO 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0" y="2708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08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0" y="1557360"/>
            <a:ext cx="77756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Art. 3º sem alter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§ únic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Os processos que não atendiam às disposições anteriores eram devolvidos para a devida adequa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s processos que não atenderem às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isposições anteriores </a:t>
            </a:r>
            <a:r>
              <a:rPr b="1" lang="pt-BR" sz="2500" spc="-1" strike="noStrike" u="sng">
                <a:solidFill>
                  <a:srgbClr val="0000ff"/>
                </a:solidFill>
                <a:uFillTx/>
                <a:latin typeface="Arial"/>
              </a:rPr>
              <a:t>não serão recebid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la Superintendência de Recursos logísiticos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e Manuten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art. 3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81080" y="1557360"/>
            <a:ext cx="842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Tratando-se de processo admistrativo para realização de licitação, o pedido de abertura do processo de licitação deve ser acompanhado de autorização da autoridade compet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formulário de solicitação mensal de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recurs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será utilizado como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pedido de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abertura do processo de licitação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, desde qu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ssinado pelo ordenador de despesa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responsável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la a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art. 4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1614600"/>
            <a:ext cx="83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em certificava a existência de recursos orçamentários e financeiros era Coordenadoria de Planejamento e Orç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m vai certificar a existência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orçamentários e financeiros é 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intendência de Planejamento 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rnização Institucional, certificando a font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despesa no formulário de solicita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sal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. (somente após est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rtificação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será remetido 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intendência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os logísticos 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§1º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614600"/>
            <a:ext cx="83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 processo era remetido à CPL para elaboração de Ed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deverá ser remetido à COGES p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ntagem do processo e 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minhamento à CPL, que promoverá todos 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âmites legais que o processo requ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0" y="1614600"/>
            <a:ext cx="831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uta do edital deverá ser anexada ao processo (também por meio magnético) e encaminhada á Assessoria/Procuradoria Jurídica compentente para análise, aprovação e elaboração nota jurídica, conforme parágrafo único do art 38 da Lei 8.666/93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4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s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processo conjunto – aquele que envolva mais de um órgão ou entidade do SISEMA – a ratificação poderá ser feita  por qualquer um dos procuradores dos órgãos ou entidades participantes do pro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ões dos § 3º, 4º, 5º e 6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1614600"/>
            <a:ext cx="831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5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 casos de processo iniciado nas Regionais do IEF, IGAM e SUPRAM’s, a elaboração da minuta e aprovação deverão ser efetuados pela Assessoria Jurídica local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6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ovado o edital o mesmo será impresso pelas Procuradoria/Assessoria que o remeterá à CPL devidamente rubricadoe numerado. A CPL providenciará a publicação do Edital, sendo aberto o prazo constante na legislação para que as empresas apresentem propo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ões dos § 3º, 4º, 5º e 6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1614600"/>
            <a:ext cx="83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stituído pelo §3º do art 4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Nova redação: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da a licitação,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contendo a ata, as propostas e 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umentação exigida, conforme Anexos dest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m de Serviços, será encaminhado à Assessoria/Procuradoria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Principais alterações no art 5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0" y="1614600"/>
            <a:ext cx="8317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1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Assessoria/Procuradoria Jurídica analisará a fase externa da licitação, observando se foram cumpridas todas as exigências legais e em seguida elaborará nota jurídica opinando favoravelmente ou não sobre a homologaç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2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ando o procedimento em conformidade com a legislação, a nota jurídica será encaminhada à CPL acompanhada do termo de homologaç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termo de homologação será encaminhado à CPL que providenciará as assinaturas  da(s) autoridades(s) competente(s) e posterior publica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ão dos § 1º, 2º e , 3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24000" y="1989000"/>
            <a:ext cx="7561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Com o novo fluxo e com as novas diretrizes do SISEMA, um novo arranjo, com novas definições teve que ser feita a partir do art 6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324000" y="1989000"/>
            <a:ext cx="77752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6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o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 publicado o termo de homologação, caso seja necessário, a CPL deverá elaborar o contrato e encaminha-lo ao Núcleo de Apoio à Gestão de Suprimentos e Contratos para verificação dos dados relativos ao contrata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§ únic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s assinaturas das partes serão colhidas pela CPL e encaminhadas ao Núcleo de Apoio à Gestão de Suprimentos e Contratos, que providenciará a publicação do contrato.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6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24000" y="1706400"/>
            <a:ext cx="8280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e-se com a nova Ordem de Serviç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r as alterações e os impactos que a nova Sistemática de Solicitação Mensal de Recursos trará para 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os procedimentos internos no que tange à sistemática de compras, contratos e lici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imir todas as dúvidas inerentes aos procedimentos da nova sistem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90792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jetivos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24000" y="1700280"/>
            <a:ext cx="77752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Art. 7º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de responsabilidade das regionais 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AM’s 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lização e realização dos process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citató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§1º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curadoria/Assessoria local será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ns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l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issão de nota jurídica quanto 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ovação d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uta de edital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à homologação 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ção d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ós elaboração do contrato a 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adoria/assessori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 deverá encaminhar 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o para publicação no Núcle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io à Gestã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imentos e Contr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7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24000" y="1413000"/>
            <a:ext cx="77752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8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tando-se de Dispensa / Inexigibilidade de Licitação, observado o disposto no art. 3º e no art. 4º, o processo será devidamente instruído com Justificativa, Termo de Referência, Autorização do Ordenador e toda a documentação necessária, conforme estabelecido no Anexo I desta Ordem de Serviço e será encaminhado para a Procuradoria/Assessoria Jurídica que elaborará Nota sobre a viabilidade jurídica e adequação do pedido de contratação a uma das modalidades de dispensa/inexigibilidade de licitação ra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8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324000" y="177336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1º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ndo em conformidade, a Procuradoria/Assessoria Jurídica elaborará a minuta do Ato de Dispensa/Inexigibilidade a ser assinado pela autoridade competente, nos termos das resoluções pertinentes e a minuta do Ato de Ratificação a ser assinado pelo Dirigente Máximo de cada órgão ou ent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seguir, o processo, já instruído com a Nota Jurídica, as minutas dos atos e a minuta do Contrato (quando houver), serão encaminhados à Auditoria que providenciará o Atestado de Conform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1º e 2º do Art 8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9280" y="1773360"/>
            <a:ext cx="864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ndo em conformidade com a legislação, o contrato será analisado/preenchido pela Procuradoria/Assessoria Jurídica, que encaminhará o processo à Superintendência de Recursos Logísticos e Manutenção, instruído com 3 (três) vias do contrato para colher as assinaturas. Após assinado, o Contrato, será publicado pela Procuradoria/Assessoria Jurídica. As vias do contrato deverão ser distribuídas da seguinte forma, 1 (uma) via deverá ser anexada ao processo, e 1 (uma) via para a parte contratad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3º do Art 8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324000" y="1413000"/>
            <a:ext cx="7775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9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cado o contrato, o processo será encaminhado à Coordenadoria de Contratos ou Coordenadoria de Gestão de Suprimentos, para finalização de procedimento no SIAD. As regras de acompanhamento dos contratos de serviço serão estabelecidas entre as Coordenadorias de Contrato e Núcleo de Serviços pela Superintendência de Recursos Logísticos e Manutenção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9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324000" y="1413000"/>
            <a:ext cx="777528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Art. 10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rante a execução contratual, verificada a necessidade de se promover qualquer alteração no contrato, desde que previstos em lei, as áreas afins deverão efetuar o pedido de alteração, devidamente justificado e autorizado pelo dirigente máximo do órgão ou ent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10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324000" y="1773360"/>
            <a:ext cx="83516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1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caso da alteração contratual envolver disponibilidade financeira, o pedido de alteração deverá ser encaminhado à Superintendência de Modernização Institucional que certificará quanto à disponibilidade orçamentária para o aditamento em questão, e confirmará, por meio de ato formal, a aquiescência do responsável pela ação a que o contrato está vinculado. Caso o aditamento não envolva disponibilidade financeira, o pedido de alteração será encaminhado diretamente para a Coordenadoria de Gestão de Contrato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2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 minuta do Termo Aditivo será elaborado em conjunto entre a Coordenadoria de Gestão de Contratos e o Núcleo de Apoio à Gestão de Suprimentos e Contra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1º e 2º do Art 10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24000" y="1773360"/>
            <a:ext cx="8351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3º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 Núcleo de Apoio à Gestão de Suprimentos e Contratos deverá encaminhar o termo aditivo à Procuradoria/Assessoria Jurídica respectiva para análise, e elaboração de Nota Juríd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4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provada a minuta, a Coordenadoria de Gestão de Contratos colherá as assinaturas das partes e o Núcleo de Apoio à Gestão de Suprimentos e Contratos publicará o Termo Aditiv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3º e 4º do Art 10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179280" y="177336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Art. 11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Às Assessorias/procuradorias Jurídicas deverão orientar quanto à interpretação dos atos normativos a  serem  cumpridos pelo órgão ou entidades conforme previsto na Lei Complementar 75/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Art 1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79280" y="177336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Art. 1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umeração dos contratos, será feita no Núcleo de Apoio à Gestão de Suprimentos e Contratos ou Procuradoria/Assessoria, ficando estabelecido que cada órgão terá sua numeração própria de acordo com a unidade orçamentária. O controle da numeração contratual será feito no Protocolo da Secretaria de cada órgão e seguirá os critérios  descritos na Ordem de Serviço cujo número se iniciará com a unidade orçamentá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Art 1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24000" y="155736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edidos de contratação eram direcionados à Superintendência de Logística, com aprovação Diretoria ou Superintendências (maioria das vezes MEMO simp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edidos serão direcionados à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erintendência de Modernização Instituc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mulário de solicitação mensal de recurs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 aprovação pelo responsável pela ação ou gerente d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90792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art.1º 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16000" y="6237360"/>
          <a:ext cx="9144000" cy="85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000" y="6237360"/>
                    <a:ext cx="91440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395280" y="2708280"/>
            <a:ext cx="8280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erson do Carmo Dini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erintendência de Recursos Logísticos e Manuten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dersoncd@feam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n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1-3219.57.6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1-3219.57.6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00000" y="1197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ntatos para sugestões e dúv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24000" y="1573200"/>
            <a:ext cx="7920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Para aquisição bens de consumo e;ou permanentes era feita uma consulta formal prévia de disponibilidade de material à Superintendência de Logíst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ara aquisição bens de 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e;o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rmanen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onsult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ass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ser feita na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Coordenadoria de infra-Estrutura e Logística do SISEMA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90792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79280" y="1844640"/>
            <a:ext cx="84963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quisição de bens permanentes eram autorizadas pelo Subsecretário de Inovação e Logíst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quisição de bens permanentes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a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lano anual de supriment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que foi elaborado e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neiro,somente será efetuada co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Subsecretário de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Inovação e Logístic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§ 2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1557360"/>
            <a:ext cx="7775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O pedido era encaminhado à Coordenadoria de Gestão de Suprimen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 pedido deverá ser encaminhado à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erintendência d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lanejamento 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odernização Institucional do SISEM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exando 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mulário de solicitação Mensal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 Recurs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3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1557360"/>
            <a:ext cx="7775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Não era previsto o formulário de solicitação mensal de recursos para os casos de Dispensa/Inexigibilidad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s processos que envolva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pensa/Inexigibilidad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verão estar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evistos no formulário de solicitaçã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ensal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 recurs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4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1557360"/>
            <a:ext cx="77756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O pedido era instruído com autorização da autoridade competente, nos termos das resoluções pertine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s responsáveis pela ação e/ou gerent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projeto serão designados por resoluçã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junta específica (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assarão a ser os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responsáveis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ela autorização do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edid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5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1557360"/>
            <a:ext cx="7775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(...) com autorização do respectivo Dire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(...) com cópia do formulário d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solicitação mensal de recursos (Nest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ocumento se consegue avaliar todo o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histórico do processo, inclusive se o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responsável pela ação já autorizou o pedido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Obs: Fica padronizado que as páginas dos 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processos serão numeradas de forma 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cresc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§ único, sem alter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art. 2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3:12:33Z</dcterms:created>
  <dc:creator>SIL</dc:creator>
  <dc:description/>
  <dc:language>en-US</dc:language>
  <cp:lastModifiedBy>semad</cp:lastModifiedBy>
  <dcterms:modified xsi:type="dcterms:W3CDTF">2008-02-18T16:02:30Z</dcterms:modified>
  <cp:revision>42</cp:revision>
  <dc:subject/>
  <dc:title>Slide 1</dc:title>
</cp:coreProperties>
</file>